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4F7-D9CC-485D-9514-44479BF9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EB3-6F2D-4BD9-891B-D07B3391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F61-60C6-4A92-A437-87E23991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081-F1B2-445B-8155-A0E6E86C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CAD-E6F3-4EC8-8E9D-75F6772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374-D9C7-4D81-9B37-B21BA35D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4E2-AAC7-4007-9DAB-5FB7DFB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EE4-FB64-4489-8E43-01478D35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9E5-46BC-44BB-97BC-78E8C2A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52A-22A2-4721-8EB1-A4B05A0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ECC-6999-4306-AFDD-DC9B5BA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711-5648-44DD-B555-0F3E4B5D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EE91-404E-41E3-A246-85E4875CAF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0" y="0"/>
          <a:ext cx="9702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702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Object 2"/>
          <p:cNvGraphicFramePr/>
          <p:nvPr/>
        </p:nvGraphicFramePr>
        <p:xfrm>
          <a:off x="0" y="0"/>
          <a:ext cx="97218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21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4:53:30Z</dcterms:created>
  <dc:creator>shimizu</dc:creator>
  <dc:description/>
  <dc:language>en-US</dc:language>
  <cp:lastModifiedBy>shimizu</cp:lastModifiedBy>
  <dcterms:modified xsi:type="dcterms:W3CDTF">2012-10-26T05:47:56Z</dcterms:modified>
  <cp:revision>3</cp:revision>
  <dc:subject/>
  <dc:title>スライド 1</dc:title>
</cp:coreProperties>
</file>