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16B9-44D8-4E17-B5CA-04E665EA3D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618-E87A-4B7F-8510-43B444B918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867-F5EB-44F6-9422-5F6114D2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933-0532-414A-879A-91D76462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82B-92F2-402F-9C61-CD597A2F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9CD-7167-4199-8611-38091CBD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E3C-A169-4CFD-9A1C-C5A92F3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F16-761D-48FA-B290-26D64C5C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F83-C477-4485-B504-CFCCBBBE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3D8-E6F9-46E4-A129-45E0790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621-5506-4A39-B584-47058133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7C9-99FF-4330-90B4-69879DB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121-A1A1-4AAD-82DF-C82329D3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BBB-157B-4E62-A365-38B5792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9EB4-E1F4-4F7A-9404-97D2A06925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0" y="0"/>
          <a:ext cx="914400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2"/>
          <p:cNvGraphicFramePr/>
          <p:nvPr/>
        </p:nvGraphicFramePr>
        <p:xfrm>
          <a:off x="0" y="0"/>
          <a:ext cx="9144000" cy="646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3"/>
          <p:cNvGraphicFramePr/>
          <p:nvPr/>
        </p:nvGraphicFramePr>
        <p:xfrm>
          <a:off x="0" y="0"/>
          <a:ext cx="9144000" cy="646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55:27Z</dcterms:created>
  <dc:creator>shimizu</dc:creator>
  <dc:description/>
  <dc:language>en-US</dc:language>
  <cp:lastModifiedBy>shimizu</cp:lastModifiedBy>
  <dcterms:modified xsi:type="dcterms:W3CDTF">2012-10-18T05:04:37Z</dcterms:modified>
  <cp:revision>1</cp:revision>
  <dc:subject/>
  <dc:title>スライド 1</dc:title>
</cp:coreProperties>
</file>